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605-D517-4E87-AB55-11588BDA9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8FCA-A513-451C-949B-34A00B19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range map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140F-A422-4BF4-9104-377F0A9ED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73EE-B645-44C8-A1DF-600D7BED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5FC-FB12-439A-A983-40FFDA031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EFA3-DB6A-4AF9-BF45-2E3D2A7F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5AD-CA79-45B9-B824-C5CA0257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515285&amp;SearchText=Investigations+Into+The+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316997&amp;PageSize=50&amp;SearchText=fidel+cas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765B-30EA-47C8-A850-BAADBA791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2BA-3CD3-49FD-9774-AAA643312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E031-B5A6-41F5-BA3E-BB5D08B1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launch site photo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3E3-B6BB-42D0-A29E-48592313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CDD-6C01-4403-9D0D-F9A980AC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6E6-4DAC-4401-A4E4-2408B8B5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F21-C1BB-49AA-B87F-B40EEA69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4FF2-2F8D-4580-A4CC-5DA9EAB5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E38C-12F1-4A7E-8D6A-2AF7B07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98E-7B03-4966-BD76-63C12475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96E-E92A-4DE9-9B8E-737CB52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0E6C-680A-4250-BB8D-9EFE0FC5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B3C1-71CA-41BF-B32D-1C3E93E9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3232-58CC-435F-A4E5-6ED45E7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C41-9DE3-4A39-896D-D1FF9741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0403-C099-424B-AA32-BE3E4DF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EEC4-1AF2-434D-A4E2-E6BE998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8DEE-A620-47EE-A090-4913CE0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5592-55BB-4089-AB0A-E3402768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DDCB-B9B0-4BF8-B553-0081CCB6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6CDA-40A5-45E2-9BC9-74245CA2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7DF7-AB4F-4188-A405-EED963D9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0C53-D67D-46EA-A614-246F2DD8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8B3B-2CEA-428E-B100-CFD645E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5C0E-29AA-4059-A5D3-0086045F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65F-218E-4741-9A94-AED5B6C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E10B-6242-4F89-B5CC-8A43FBF5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83DB-B694-440E-86CC-320E346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3603-061D-41A7-9744-98F9857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625F-0DB3-4A1F-BC59-FFE2E55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8512-8636-4B83-9333-0E48116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BFA6-EE7A-4871-BFE8-B802E83F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AED2-9533-4DFF-BCCF-AAC8DFB0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1B7B-CDDA-4B86-89C2-88AB4B47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84F9-1255-4088-93DD-EFC838BE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D40F-F997-4D5E-B539-6D08190C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229-F5C4-49EA-84C0-6497A5D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15AD-953E-47B2-A874-39BFA48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D4EB-8D29-4B18-8C39-65E0BAAF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372E-5B22-4E42-9BB1-33986A8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96AE-9FDA-45C1-9685-B443150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7328-7881-4C58-B031-2151E568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61B47-F670-4BFC-9C97-20D652C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AFDD-6537-4710-9590-32B1B4F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C257-2D5A-4265-AEF0-9606F333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CF32-3A0F-4D52-B058-8A13386A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99BF-0FF0-4457-956C-3C4738AE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2F7-F320-4488-8DDC-CE3EE90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BB18-3091-4A1B-9DCF-3A1954AC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BCBE-DC0E-4FA3-A48F-DEC8B184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3A62-70C8-4316-8AFE-749FCAAC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BBC6-9750-4ED2-A07B-F6B8A7F1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016E-AC95-4865-A31D-DFF1571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D925E-0A09-4DF6-873E-5ADDBE5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719B-A7AC-4245-955C-0147DFE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8D8BD-7153-4CC7-AB7C-78D2B91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1004-14F5-40C5-9CA1-3DD58148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60BD-9003-4541-B3C7-7724D864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2F5-DB63-4666-BA33-46F781D8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F29B5-A71B-4E80-B64D-98DEA446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E394-B66F-4D56-8633-E4E69826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EA697-175B-487F-944D-5BF0F01A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FF47-1D01-4A1F-9C99-BC2F9A6A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DECBC-8A5E-4328-83FB-6EA85AC4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80CA-56FD-4C52-ABC4-B5A2AA9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8478-A29E-49A4-A23E-CDAB4C6D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A293-78F3-4E7B-AD00-18B5A0B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1602-9023-4958-88EB-490A434D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62AA-FBC0-45B5-AB92-40CF816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CB4-B166-48CA-AFCD-B835D1F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272BD-4E27-4454-83D6-3C2A1F8A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77AA-6660-4555-8460-DF630BD6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029E-ACD5-4020-9B5C-C5859A81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F1B4-CC6B-40CA-9CA6-8E8A4322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6B9E-F2E3-4EE1-8C97-F5E65466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29E8-6171-4523-8698-9BF1E02C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04C5-3E4A-4C97-8D83-3DF9483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E79FB-C26E-42AC-AE99-F817CD7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E0BE-39A8-4374-8A1B-933ED2A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0906-EC79-4951-9FDD-8513B879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BBF-16D9-4452-B3E2-672940B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547F-752A-440A-AA60-16257BC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6DB1-1A31-4AA4-9440-EC6CB90F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FA0DD-A9C8-4383-B3C7-ACE9910F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950C-4855-422B-8C6C-B73E7A06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6AF8-1E1A-44D0-BE52-A38F2936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3B4-8B86-4C33-9097-A6751C6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731A-8BEC-4A8A-97BB-6B72F9AC7B6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9BFE-C2AB-498B-8F17-4E1B0AE1EEF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198A-582E-46C6-9ADA-9D588C21C1B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596-BE2A-41C4-8E43-D7FA14D349A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784-D3D2-4C87-9FFE-651A67634B1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509-EDB1-419D-B3EA-67E6B419D0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B154-DDD4-4653-85FD-899ADA653BA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y of Pigs Invasion, Berlin Crisis, and Cuban Missile Crisi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What impact did the Bay of Pigs, Berlin Crisis, and Cuban Missile Crisis have on the Cold War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6"/>
          <p:cNvSpPr/>
          <p:nvPr/>
        </p:nvSpPr>
        <p:spPr>
          <a:xfrm>
            <a:off x="380880" y="205740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missil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 thes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ban sites threate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jor cities in the United Stat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8" name="Picture 5" descr="hsus_ch28_s1_CubanMissileMap"/>
          <p:cNvPicPr/>
          <p:nvPr/>
        </p:nvPicPr>
        <p:blipFill>
          <a:blip r:embed="rId1"/>
          <a:stretch/>
        </p:blipFill>
        <p:spPr>
          <a:xfrm>
            <a:off x="3352680" y="1295280"/>
            <a:ext cx="57484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Cuban Missile Crisis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1676520" y="3962520"/>
            <a:ext cx="66294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hrushchev agreed to dismantle the missiles if the United States pledged to never invade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oth Kennedy and Khrushchev took steps to ease tensions between their countrie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y set up a hotline to allow direct communication during times of crisi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Limited Nuclear Test Ban Treaty was signed, ending atmospheric and underwater testing of nuclear weapon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28600" y="1676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anag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676520" y="838080"/>
            <a:ext cx="6629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assembled a group of advisors, known as the ExComm, to help him plan a respons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ExComm military members favored an air strike, perhaps followed by a land invasion of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Others argued for a naval blockade.  Kennedy agreed with this plan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world watched as Soviet ships carrying missile parts approached the naval blockade.  They turned back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20560" y="4191120"/>
            <a:ext cx="10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ffects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of th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8"/>
          <p:cNvSpPr/>
          <p:nvPr/>
        </p:nvSpPr>
        <p:spPr>
          <a:xfrm>
            <a:off x="4495680" y="18288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b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533520" y="1828800"/>
            <a:ext cx="396216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43040" y="2066760"/>
          <a:ext cx="7696080" cy="3610080"/>
        </p:xfrm>
        <a:graphic>
          <a:graphicData uri="http://schemas.openxmlformats.org/drawingml/2006/table">
            <a:tbl>
              <a:tblPr/>
              <a:tblGrid>
                <a:gridCol w="3752640"/>
                <a:gridCol w="3943440"/>
              </a:tblGrid>
              <a:tr h="609840"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ubl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ind the Sce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0240"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a television address, Kennedy blamed </a:t>
                      </a:r>
                      <a:r>
                        <a:rPr b="0" lang="en-US" sz="1800" spc="-1" strike="noStrike">
                          <a:solidFill>
                            <a:srgbClr val="a5d028"/>
                          </a:solidFill>
                          <a:latin typeface="Verdana"/>
                        </a:rPr>
                        <a:t>Khrushchev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reckless action that threatened world pe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initiated a U.S. naval blockade of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told the Soviets that the United States would remove U.S. missiles from Turkey and Italy if the Soviets removed their missiles from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6680" y="1523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resolve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Kennedy worked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2" descr="soviet_old_soviet_union_fla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5386320" y="5257800"/>
            <a:ext cx="1243080" cy="824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us_flag"/>
          <p:cNvPicPr/>
          <p:nvPr/>
        </p:nvPicPr>
        <p:blipFill>
          <a:blip r:embed="rId2">
            <a:lum bright="44000"/>
          </a:blip>
          <a:stretch/>
        </p:blipFill>
        <p:spPr>
          <a:xfrm>
            <a:off x="2514600" y="5267160"/>
            <a:ext cx="1343160" cy="8146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29"/>
          <p:cNvSpPr/>
          <p:nvPr/>
        </p:nvSpPr>
        <p:spPr>
          <a:xfrm>
            <a:off x="304920" y="140184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fter six tense days, the Soviets backed off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Text Box 130"/>
          <p:cNvSpPr/>
          <p:nvPr/>
        </p:nvSpPr>
        <p:spPr>
          <a:xfrm>
            <a:off x="16002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ikita Khrushche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greed to honor the blockade and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moved the missil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066680" y="34290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risis prompted the two leaders to establish a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eriod of détente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set up a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t 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Washington, D.C. and Moscow to improve communicatio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3" name="Picture 10" descr="hsus_ch28_s1_hotlineleft"/>
          <p:cNvPicPr/>
          <p:nvPr/>
        </p:nvPicPr>
        <p:blipFill>
          <a:blip r:embed="rId3"/>
          <a:stretch/>
        </p:blipFill>
        <p:spPr>
          <a:xfrm>
            <a:off x="4038480" y="5257800"/>
            <a:ext cx="1087560" cy="784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7-532-map"/>
          <p:cNvPicPr/>
          <p:nvPr/>
        </p:nvPicPr>
        <p:blipFill>
          <a:blip r:embed="rId1"/>
          <a:stretch/>
        </p:blipFill>
        <p:spPr>
          <a:xfrm>
            <a:off x="338040" y="363600"/>
            <a:ext cx="8447040" cy="5624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7-528-image"/>
          <p:cNvPicPr/>
          <p:nvPr/>
        </p:nvPicPr>
        <p:blipFill>
          <a:blip r:embed="rId1"/>
          <a:stretch/>
        </p:blipFill>
        <p:spPr>
          <a:xfrm>
            <a:off x="63360" y="762120"/>
            <a:ext cx="9017280" cy="48006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152280" y="4373640"/>
            <a:ext cx="4876920" cy="11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57200" y="4495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Kennedy took responsibility for the mission’s failure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AutoShape 10"/>
          <p:cNvSpPr/>
          <p:nvPr/>
        </p:nvSpPr>
        <p:spPr>
          <a:xfrm flipH="1">
            <a:off x="5180760" y="3962520"/>
            <a:ext cx="3581640" cy="2133360"/>
          </a:xfrm>
          <a:prstGeom prst="wedgeRoundRectCallout">
            <a:avLst>
              <a:gd name="adj1" fmla="val -41537"/>
              <a:gd name="adj2" fmla="val -64847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334120" y="41148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esident said, however, that he would continue to resist efforts by the communists to control other countries in Western Hemisphere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90480" y="15238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arted with Eisenhower and followed with Kennedy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ceived by the CIA to overthrow Fidel Castro, the invasion involved Cuban exiles who had fled Castro’s rule and settled in the United States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ay of Pig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ssion failed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457200" y="5335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 Bay of Pigs Invasion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Bay of Pigs Invas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019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533520" y="1600200"/>
            <a:ext cx="7696080" cy="26668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Failed Invas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formation was leaked early- New York Tim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ir strikes faile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Castro prepared for a land attack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vaders were captured and ransomed back to United States for $52 million in food and ai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trengthened Castro’s ties to the Soviet Un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581360" y="4438800"/>
            <a:ext cx="456264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8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457200" y="380880"/>
            <a:ext cx="8001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he Berlin Crisis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agreement over Berlin led to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ilding of the </a:t>
            </a:r>
            <a:r>
              <a:rPr b="1" lang="en-US" sz="2400" spc="-1" strike="noStrike">
                <a:solidFill>
                  <a:srgbClr val="a5d028"/>
                </a:solidFill>
                <a:latin typeface="Verdana"/>
              </a:rPr>
              <a:t>Berlin Wal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AutoShape 23"/>
          <p:cNvSpPr/>
          <p:nvPr/>
        </p:nvSpPr>
        <p:spPr>
          <a:xfrm flipH="1">
            <a:off x="380160" y="2286000"/>
            <a:ext cx="3581640" cy="1295280"/>
          </a:xfrm>
          <a:prstGeom prst="wedgeRoundRectCallout">
            <a:avLst>
              <a:gd name="adj1" fmla="val -59356"/>
              <a:gd name="adj2" fmla="val -75004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Khrushchev insisted the U.S. end its military presence in West Berlin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AutoShape 24"/>
          <p:cNvSpPr/>
          <p:nvPr/>
        </p:nvSpPr>
        <p:spPr>
          <a:xfrm flipH="1">
            <a:off x="4723560" y="2057400"/>
            <a:ext cx="4038840" cy="1600200"/>
          </a:xfrm>
          <a:prstGeom prst="wedgeRoundRectCallout">
            <a:avLst>
              <a:gd name="adj1" fmla="val 54675"/>
              <a:gd name="adj2" fmla="val 63689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nnedy refused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763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hrushchev ordered the building of th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parating East and West Berli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9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4248000" y="4343400"/>
            <a:ext cx="457200" cy="1447920"/>
          </a:xfrm>
          <a:prstGeom prst="rect">
            <a:avLst/>
          </a:prstGeom>
          <a:gradFill rotWithShape="0">
            <a:gsLst>
              <a:gs pos="0">
                <a:srgbClr val="a3a3c1"/>
              </a:gs>
              <a:gs pos="50000">
                <a:srgbClr val="dddddd"/>
              </a:gs>
              <a:gs pos="100000">
                <a:srgbClr val="a3a3c1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533520" y="1447920"/>
            <a:ext cx="838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response to Khrushchev’s actions, Kennedy requested a larg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increase in military spendin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also sent 1,500 more U.S. soldiers to West Berlin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37339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came a symbol of the gulf between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AutoShape 15"/>
          <p:cNvSpPr/>
          <p:nvPr/>
        </p:nvSpPr>
        <p:spPr>
          <a:xfrm flipH="1" rot="5400000">
            <a:off x="2056680" y="2937600"/>
            <a:ext cx="762120" cy="3962520"/>
          </a:xfrm>
          <a:prstGeom prst="upArrowCallout">
            <a:avLst>
              <a:gd name="adj1" fmla="val 96842"/>
              <a:gd name="adj2" fmla="val 50000"/>
              <a:gd name="adj3" fmla="val 68650"/>
              <a:gd name="adj4" fmla="val 26394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4952880" y="47242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AutoShape 16"/>
          <p:cNvSpPr/>
          <p:nvPr/>
        </p:nvSpPr>
        <p:spPr>
          <a:xfrm flipH="1" rot="16200000">
            <a:off x="6186240" y="2847600"/>
            <a:ext cx="762120" cy="4143600"/>
          </a:xfrm>
          <a:prstGeom prst="upArrowCallout">
            <a:avLst>
              <a:gd name="adj1" fmla="val 96842"/>
              <a:gd name="adj2" fmla="val 50000"/>
              <a:gd name="adj3" fmla="val 71788"/>
              <a:gd name="adj4" fmla="val 26394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685800" y="47242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emocratic We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5029200" y="4724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7-531-closeup"/>
          <p:cNvPicPr/>
          <p:nvPr/>
        </p:nvPicPr>
        <p:blipFill>
          <a:blip r:embed="rId1"/>
          <a:stretch/>
        </p:blipFill>
        <p:spPr>
          <a:xfrm>
            <a:off x="1447920" y="-30240"/>
            <a:ext cx="5638680" cy="69138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2" name="Rectangle 6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6"/>
          <p:cNvSpPr/>
          <p:nvPr/>
        </p:nvSpPr>
        <p:spPr>
          <a:xfrm>
            <a:off x="5791320" y="2133720"/>
            <a:ext cx="3124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1962, American intelligence agencies photographed Sovie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uclear missile installations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Cub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4" name="Picture 5" descr="hsus_ch28_s1_CubanMissiles"/>
          <p:cNvPicPr/>
          <p:nvPr/>
        </p:nvPicPr>
        <p:blipFill>
          <a:blip r:embed="rId1"/>
          <a:stretch/>
        </p:blipFill>
        <p:spPr>
          <a:xfrm>
            <a:off x="304920" y="1676520"/>
            <a:ext cx="543564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1523880" y="1003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://wiki.danse.us/danse-restricted/images/1/12/CubanMissileCrisisU2photo.jpg"/>
          <p:cNvPicPr/>
          <p:nvPr/>
        </p:nvPicPr>
        <p:blipFill>
          <a:blip r:embed="rId1"/>
          <a:stretch/>
        </p:blipFill>
        <p:spPr>
          <a:xfrm>
            <a:off x="0" y="20520"/>
            <a:ext cx="92408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22:51:52Z</dcterms:created>
  <dc:creator>Gille, Brock</dc:creator>
  <dc:description/>
  <dc:language>en-US</dc:language>
  <cp:lastModifiedBy>Sacerdote, Kevin R.</cp:lastModifiedBy>
  <dcterms:modified xsi:type="dcterms:W3CDTF">2016-02-28T16:32:09Z</dcterms:modified>
  <cp:revision>6</cp:revision>
  <dc:subject/>
  <dc:title>PowerPoint Presentation</dc:title>
</cp:coreProperties>
</file>